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1BFD-4403-4810-BD96-25AE709C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2A43-59E2-43C9-B790-B2A02967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AFDF-BA26-4511-930D-E7CB191A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385B-1D9D-4B9B-962F-049FA6E5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0A4A-4BDE-4164-9F3D-FBEC4DDF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7FE0-F2D0-4326-ADEF-0A460C5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46B1-7965-4A71-9092-44FE559C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E6EE-D28E-43DD-93E7-5FCCB17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05C5-A14A-482D-BE70-B41EBA33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4E49-7970-49E3-B1AF-9C51B293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CA81-90ED-441D-A486-9C06FEFB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64CC5-2EAE-43B7-9281-BFD3DBFC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CB3D-B202-4707-A60E-AFE01A6C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6050-FFE7-427E-9F5F-95A4C86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BD56-ABB0-41AF-AE1D-3B92DD2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51EE-3227-42AA-A028-23FBE8EC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D65-68B2-419F-8F7F-7A3B286F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8AF7-8178-4127-962B-B94D90F8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98FC-18A9-484D-A03C-B126A90A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CB2D-0C5A-47BC-9940-78D2F03D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88FD-25E6-451D-BBB3-09C04BB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054B-BC67-475B-B563-6F1EA75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DEC6-44A2-43CF-A7CF-D19D6E3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F2AA-5CB0-4D66-BA0C-5B67730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70E3-EEE3-43DB-94B4-6B4BCBB6E9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C771-B820-47F9-A832-97660BCDA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tewaynmra.org/articles/civil-war1.htm" TargetMode="External"/><Relationship Id="rId2" Type="http://schemas.openxmlformats.org/officeDocument/2006/relationships/hyperlink" Target="http://wiki.answers.com/Q/Where_were_most_railroads_located_during_civil_wars" TargetMode="External"/><Relationship Id="rId3" Type="http://schemas.openxmlformats.org/officeDocument/2006/relationships/hyperlink" Target="http://www.historynet.com/railroads-critical-role-in-the-civil-war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58672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during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esented by: Matthew Maloy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571500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ailroads up to this poi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1825, things had considerably im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omotives and RR cars got b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ck got stro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fety features appeared (head l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ilroads started appearing and comb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he time of the war, railroads were on both sides of the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majority of them in the North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actical employment of locomotives and rolling stock, which was actually quite widespread, has thus far escaped serious att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could also transport heavy guns to the battlefie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War begi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the Union and the Confederate used railro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ould also transport heavy guns to the battlefie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efits to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ains could transport goods and troops faster than by horse or b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back t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s were an easy tar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rmies would go along the line, destroying bridges and taking track out of alig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war, all 5 railroads that served Jackson and Vicksburg, Mississippi, were destro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roops and supplies finally did get there, Grant’s Troops were too strong to be taken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ould also transport heavy guns to the battlefie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LOCOMOTIVE C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ably the most famous 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place at Big Shanty, Georgia (outside Atlan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ederate soldiers, being lead by James Andrews stole, a train in hopes of destroying the tracks to prevent the supplies from getting to General Beaureg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ductor chased his train down on foot, on handcar, and on 2 different locomo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es Andrews didn’t get away (he ran out of woo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of the locomotives in the chase, the Texas and the General, have been preserved at a 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is the General on the fron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ference Pa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ron Rail Video “The American Standar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gatewaynmra.org/articles/civil-war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iki.answers.com/Q/Where_were_most_railroads_located_during_civil_w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historynet.com/railroads-critical-role-in-the-civil-war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35:36Z</dcterms:created>
  <dc:creator>214029</dc:creator>
  <dc:description/>
  <dc:language>en-US</dc:language>
  <cp:lastModifiedBy>214029</cp:lastModifiedBy>
  <dcterms:modified xsi:type="dcterms:W3CDTF">2010-01-12T20:39:11Z</dcterms:modified>
  <cp:revision>13</cp:revision>
  <dc:subject/>
  <dc:title>Slide 1</dc:title>
</cp:coreProperties>
</file>